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A8257-FF79-4DFB-9BE0-0AE421C910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3271E-4CC1-4C6E-87CC-BE66000549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E6C07-EA53-4164-917F-D4F3B50EE5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EA34F-109D-4E8B-BCDA-1738C4DC07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E630B1-69F3-46FA-B6A1-0A6BFF5CF2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6F637-9D1A-4ED5-8558-C828DEC465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C0572-2829-4CBC-9554-33B3882E49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279592-6609-4843-8FE6-90191FB59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CB0DC2-A660-4D16-A032-80E012A782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24578-2756-494F-84F0-27A650A51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2EB0B-DD50-4951-808A-6B164864DA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0A82E-32AA-4FBB-A7E1-E761EEE89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CA3597-23A3-43DF-A75C-11C39FAB4A0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mperature and Air Pressure Quizz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ke out a piece of notebook paper and number from 1 – 9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nd in core bin when don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" name="" descr=""/>
          <p:cNvPicPr/>
          <p:nvPr/>
        </p:nvPicPr>
        <p:blipFill>
          <a:blip r:embed="rId1"/>
          <a:srcRect l="0" t="15627" r="25782" b="52084"/>
          <a:stretch/>
        </p:blipFill>
        <p:spPr>
          <a:xfrm>
            <a:off x="0" y="304920"/>
            <a:ext cx="9144000" cy="298440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33520" y="4572360"/>
            <a:ext cx="739440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. Which photo shows a lower than normal barometric pressure? </a:t>
            </a:r>
            <a:br>
              <a:rPr sz="1800"/>
            </a:b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. Wetlands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. Hou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rcRect l="15626" t="19791" r="44535" b="54166"/>
          <a:stretch/>
        </p:blipFill>
        <p:spPr>
          <a:xfrm>
            <a:off x="0" y="622440"/>
            <a:ext cx="9144000" cy="4481280"/>
          </a:xfrm>
          <a:prstGeom prst="rect">
            <a:avLst/>
          </a:prstGeom>
          <a:ln w="0">
            <a:noFill/>
          </a:ln>
        </p:spPr>
      </p:pic>
      <p:sp>
        <p:nvSpPr>
          <p:cNvPr id="44" name=""/>
          <p:cNvSpPr/>
          <p:nvPr/>
        </p:nvSpPr>
        <p:spPr>
          <a:xfrm>
            <a:off x="581040" y="5256720"/>
            <a:ext cx="798192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. You can compare temperatures just by looking at a temperature bar grap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.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. Fa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" descr=""/>
          <p:cNvPicPr/>
          <p:nvPr/>
        </p:nvPicPr>
        <p:blipFill>
          <a:blip r:embed="rId1"/>
          <a:srcRect l="13888" t="19580" r="44446" b="52862"/>
          <a:stretch/>
        </p:blipFill>
        <p:spPr>
          <a:xfrm>
            <a:off x="0" y="981000"/>
            <a:ext cx="8991720" cy="3895920"/>
          </a:xfrm>
          <a:prstGeom prst="rect">
            <a:avLst/>
          </a:prstGeom>
          <a:ln w="0">
            <a:noFill/>
          </a:ln>
        </p:spPr>
      </p:pic>
      <p:sp>
        <p:nvSpPr>
          <p:cNvPr id="46" name=""/>
          <p:cNvSpPr/>
          <p:nvPr/>
        </p:nvSpPr>
        <p:spPr>
          <a:xfrm>
            <a:off x="762120" y="4801320"/>
            <a:ext cx="8153280" cy="192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. What is the lowest temperature on the bar graph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. 51.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. 35.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. 25.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. 44.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" descr=""/>
          <p:cNvPicPr/>
          <p:nvPr/>
        </p:nvPicPr>
        <p:blipFill>
          <a:blip r:embed="rId1"/>
          <a:srcRect l="0" t="15627" r="25003" b="52084"/>
          <a:stretch/>
        </p:blipFill>
        <p:spPr>
          <a:xfrm>
            <a:off x="0" y="609480"/>
            <a:ext cx="9144000" cy="2954520"/>
          </a:xfrm>
          <a:prstGeom prst="rect">
            <a:avLst/>
          </a:prstGeom>
          <a:ln w="0">
            <a:noFill/>
          </a:ln>
        </p:spPr>
      </p:pic>
      <p:sp>
        <p:nvSpPr>
          <p:cNvPr id="48" name=""/>
          <p:cNvSpPr/>
          <p:nvPr/>
        </p:nvSpPr>
        <p:spPr>
          <a:xfrm>
            <a:off x="428760" y="4192200"/>
            <a:ext cx="6505560" cy="219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. Temperature bar graphs show u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. Highest temperatur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. Temperatures at different tim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. All answers are correc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. Lowest temperatu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ctr">
              <a:lnSpc>
                <a:spcPct val="100000"/>
              </a:lnSpc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" descr=""/>
          <p:cNvPicPr/>
          <p:nvPr/>
        </p:nvPicPr>
        <p:blipFill>
          <a:blip r:embed="rId1"/>
          <a:srcRect l="0" t="15627" r="26564" b="51046"/>
          <a:stretch/>
        </p:blipFill>
        <p:spPr>
          <a:xfrm>
            <a:off x="0" y="457200"/>
            <a:ext cx="9144000" cy="311292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5760" y="4800960"/>
            <a:ext cx="3320640" cy="109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. At what time is it 72°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______________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 algn="ctr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" name="" descr=""/>
          <p:cNvPicPr/>
          <p:nvPr/>
        </p:nvPicPr>
        <p:blipFill>
          <a:blip r:embed="rId1"/>
          <a:srcRect l="0" t="15627" r="24220" b="52084"/>
          <a:stretch/>
        </p:blipFill>
        <p:spPr>
          <a:xfrm>
            <a:off x="0" y="533520"/>
            <a:ext cx="9144000" cy="2922480"/>
          </a:xfrm>
          <a:prstGeom prst="rect">
            <a:avLst/>
          </a:prstGeom>
          <a:ln w="0">
            <a:noFill/>
          </a:ln>
        </p:spPr>
      </p:pic>
      <p:sp>
        <p:nvSpPr>
          <p:cNvPr id="52" name=""/>
          <p:cNvSpPr/>
          <p:nvPr/>
        </p:nvSpPr>
        <p:spPr>
          <a:xfrm>
            <a:off x="574560" y="5805360"/>
            <a:ext cx="184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0" bIns="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228600" y="4343400"/>
            <a:ext cx="8686800" cy="160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. Temperature bar graphs are a good visual for displaying extremes of high and low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.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. Fa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rcRect l="0" t="15155" r="26852" b="51179"/>
          <a:stretch/>
        </p:blipFill>
        <p:spPr>
          <a:xfrm>
            <a:off x="0" y="838080"/>
            <a:ext cx="9144000" cy="2314800"/>
          </a:xfrm>
          <a:prstGeom prst="rect">
            <a:avLst/>
          </a:prstGeom>
          <a:ln w="0">
            <a:noFill/>
          </a:ln>
        </p:spPr>
      </p:pic>
      <p:sp>
        <p:nvSpPr>
          <p:cNvPr id="55" name=""/>
          <p:cNvSpPr/>
          <p:nvPr/>
        </p:nvSpPr>
        <p:spPr>
          <a:xfrm>
            <a:off x="152280" y="4267800"/>
            <a:ext cx="8991720" cy="16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. The balloon experiment proves that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. Air has weigh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. A balloon with more air is lighter than a balloon with little a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. On the side that tipped downward, the balloon was lighte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" descr=""/>
          <p:cNvPicPr/>
          <p:nvPr/>
        </p:nvPicPr>
        <p:blipFill>
          <a:blip r:embed="rId1"/>
          <a:srcRect l="0" t="15627" r="27343" b="52084"/>
          <a:stretch/>
        </p:blipFill>
        <p:spPr>
          <a:xfrm>
            <a:off x="76320" y="914400"/>
            <a:ext cx="9067680" cy="30225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228600" y="4877280"/>
            <a:ext cx="7921800" cy="137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spAutoFit/>
          </a:bodyPr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. Changing barometric pressure usually means a change in wea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. Tru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. Fals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" descr=""/>
          <p:cNvPicPr/>
          <p:nvPr/>
        </p:nvPicPr>
        <p:blipFill>
          <a:blip r:embed="rId1"/>
          <a:srcRect l="0" t="14584" r="26564" b="52084"/>
          <a:stretch/>
        </p:blipFill>
        <p:spPr>
          <a:xfrm>
            <a:off x="0" y="304920"/>
            <a:ext cx="9144000" cy="3112920"/>
          </a:xfrm>
          <a:prstGeom prst="rect">
            <a:avLst/>
          </a:prstGeom>
          <a:ln w="0">
            <a:noFill/>
          </a:ln>
        </p:spPr>
      </p:pic>
      <p:sp>
        <p:nvSpPr>
          <p:cNvPr id="59" name=""/>
          <p:cNvSpPr/>
          <p:nvPr/>
        </p:nvSpPr>
        <p:spPr>
          <a:xfrm>
            <a:off x="152280" y="4496400"/>
            <a:ext cx="6734160" cy="16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ctr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. Rising barometric pressure usually bring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. Sunnier sk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. Cloudy skies and precipit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. No difference in the weath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1-11T12:18:55Z</dcterms:created>
  <dc:creator>skrial</dc:creator>
  <dc:description/>
  <dc:language>en-US</dc:language>
  <cp:lastModifiedBy>skrial</cp:lastModifiedBy>
  <dcterms:modified xsi:type="dcterms:W3CDTF">2010-01-11T12:19:56Z</dcterms:modified>
  <cp:revision>1</cp:revision>
  <dc:subject/>
  <dc:title>Temperature and Air Pressure Quizzes</dc:title>
</cp:coreProperties>
</file>